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8CBF-ADF4-4272-A002-F1C12F4D4A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VD/HD-AV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ひとつでいい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e Touch Di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D → S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順に作成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covery Tool / Playlist burnin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i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直接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書き戻す機能はドロップした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一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取り込んでから書き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D92-F606-4A56-9AA2-1F1E44F3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1E1-2FD5-433D-B654-B196EBDE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0AB-BB4C-449B-AF5B-C79335D9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2FA-8D46-40E5-9028-8ED114AB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A667-FD02-419A-A0F7-E1F4B217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3CCC-A2D8-4BDF-9F5B-7FD95257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9A10-BBF4-41E0-B52A-497E35C8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4D81-14E2-4D40-A665-45B854C8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DC5A-679C-47A4-909D-74DDB111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2F0E-7EB2-43FB-BB37-17956542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916B-4FFB-4AFA-BC68-13B9DAA8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6E6-B145-4E5D-BD13-04EC5088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C414-B972-49D4-9E59-2069812E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FA61-CD76-4C66-A7D5-BB491707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5294-12BD-44E2-BFD0-C45FB086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EC16-48E3-4194-81D4-42EFBEEC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1817-1115-4710-B587-CDD88DFE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7B6-CEA1-4EBF-A4D1-C8F46164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4AB-73D4-44C8-8D34-8702AC17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36A-D4AE-4CB0-B3A4-CF7D6575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DC9-53A7-4B6F-B945-B23D82D7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BCC-6269-48DC-A3F3-F6792FB5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600-EB35-49D8-9077-69DEDD5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81F-5529-4137-A1E0-F8AD41CE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255E-8674-4C08-9512-0665983A5CF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07A9-19DB-489F-8BE8-6D1C4B770AC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304920"/>
            <a:ext cx="8763120" cy="6095880"/>
          </a:xfrm>
          <a:prstGeom prst="rect">
            <a:avLst/>
          </a:prstGeom>
          <a:solidFill>
            <a:srgbClr val="9ac2c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3486600"/>
            <a:ext cx="2210040" cy="307080"/>
          </a:xfrm>
          <a:prstGeom prst="rect">
            <a:avLst/>
          </a:prstGeom>
          <a:gradFill rotWithShape="0">
            <a:gsLst>
              <a:gs pos="0">
                <a:srgbClr val="c0c000"/>
              </a:gs>
              <a:gs pos="50000">
                <a:srgbClr val="585800"/>
              </a:gs>
              <a:gs pos="100000">
                <a:srgbClr val="c0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cture Motion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441828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a Check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1370160"/>
            <a:ext cx="129528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Convers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1370160"/>
            <a:ext cx="1084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deo Trimming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1828440" y="2133720"/>
            <a:ext cx="1600200" cy="12952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57600" y="2133720"/>
            <a:ext cx="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72000" y="2133720"/>
            <a:ext cx="533520" cy="12189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57800" y="2209320"/>
            <a:ext cx="1143000" cy="114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59480" y="5607000"/>
            <a:ext cx="1312560" cy="337320"/>
            <a:chOff x="6459480" y="5607000"/>
            <a:chExt cx="1312560" cy="337320"/>
          </a:xfrm>
        </p:grpSpPr>
        <p:sp>
          <p:nvSpPr>
            <p:cNvPr id="346" name=""/>
            <p:cNvSpPr/>
            <p:nvPr/>
          </p:nvSpPr>
          <p:spPr>
            <a:xfrm>
              <a:off x="6459480" y="5683320"/>
              <a:ext cx="262440" cy="228600"/>
            </a:xfrm>
            <a:prstGeom prst="rect">
              <a:avLst/>
            </a:prstGeom>
            <a:gradFill rotWithShape="0">
              <a:gsLst>
                <a:gs pos="0">
                  <a:srgbClr val="5cff5c"/>
                </a:gs>
                <a:gs pos="50000">
                  <a:srgbClr val="2a752a"/>
                </a:gs>
                <a:gs pos="100000">
                  <a:srgbClr val="5cff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560" y="5607000"/>
              <a:ext cx="10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Gazel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477120" y="5943600"/>
            <a:ext cx="1294560" cy="337320"/>
            <a:chOff x="6477120" y="5943600"/>
            <a:chExt cx="1294560" cy="337320"/>
          </a:xfrm>
        </p:grpSpPr>
        <p:sp>
          <p:nvSpPr>
            <p:cNvPr id="349" name=""/>
            <p:cNvSpPr/>
            <p:nvPr/>
          </p:nvSpPr>
          <p:spPr>
            <a:xfrm>
              <a:off x="6477120" y="6127920"/>
              <a:ext cx="2484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08240" y="5943600"/>
              <a:ext cx="106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5c"/>
                  </a:solidFill>
                  <a:latin typeface="Verdana"/>
                </a:rPr>
                <a:t>Laun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09480" y="2605320"/>
            <a:ext cx="914400" cy="52020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Disc Imopr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523520" y="2895120"/>
            <a:ext cx="1752840" cy="6858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265640"/>
            <a:ext cx="121896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pi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410080"/>
            <a:ext cx="24386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V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1370160"/>
            <a:ext cx="114300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5027760"/>
            <a:ext cx="1219320" cy="733320"/>
          </a:xfrm>
          <a:prstGeom prst="rect">
            <a:avLst/>
          </a:prstGeom>
          <a:gradFill rotWithShape="0">
            <a:gsLst>
              <a:gs pos="0">
                <a:srgbClr val="5cff5c"/>
              </a:gs>
              <a:gs pos="50000">
                <a:srgbClr val="2a752a"/>
              </a:gs>
              <a:gs pos="100000">
                <a:srgbClr val="5cff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C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y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3809880"/>
            <a:ext cx="1066680" cy="5335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81680" y="3351600"/>
            <a:ext cx="1219320" cy="520200"/>
          </a:xfrm>
          <a:prstGeom prst="rect">
            <a:avLst/>
          </a:prstGeom>
          <a:gradFill rotWithShape="0">
            <a:gsLst>
              <a:gs pos="0">
                <a:srgbClr val="5c5cff"/>
              </a:gs>
              <a:gs pos="50000">
                <a:srgbClr val="2a2a75"/>
              </a:gs>
              <a:gs pos="100000">
                <a:srgbClr val="5c5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itialization T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ony Picture Utilit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DNA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86E-0EF4-4EE3-82FD-5A277F9F96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3:10:11Z</dcterms:created>
  <dc:creator>Motoyuki Suzuki</dc:creator>
  <dc:description/>
  <dc:language>en-US</dc:language>
  <cp:lastModifiedBy>tomoko-t</cp:lastModifiedBy>
  <dcterms:modified xsi:type="dcterms:W3CDTF">2006-04-28T03:34:38Z</dcterms:modified>
  <cp:revision>12</cp:revision>
  <dc:subject/>
  <dc:title>Impalaモジュール構成</dc:title>
</cp:coreProperties>
</file>